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3726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372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5396040" y="6400800"/>
            <a:ext cx="3747960" cy="1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Click to edit the title text format</a:t>
            </a: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51720" y="6267600"/>
            <a:ext cx="121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3BC2-1191-4492-9C9D-70FEF1EF0DBA}" type="slidenum">
              <a:rPr b="1" lang="en-US" sz="1600" spc="-1" strike="noStrike">
                <a:solidFill>
                  <a:srgbClr val="777777"/>
                </a:solidFill>
                <a:latin typeface="Myriad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396040" y="6324480"/>
            <a:ext cx="3747960" cy="181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Myriad Roman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Myriad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581280" y="990720"/>
            <a:ext cx="2210040" cy="1719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38080" y="2666880"/>
            <a:ext cx="8001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26668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32767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27432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Myriad Roman"/>
              </a:rPr>
              <a:t>RESERVE BANK OF IN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40068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Myriad Roman"/>
              </a:rPr>
              <a:t>PDO – NDS COMPUTERIS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511956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Myriad Roman"/>
              </a:rPr>
              <a:t>WAN Enablement of PD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Requirements on Member Server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IIS and Networking Services on Windows Server 2000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CIS Enabled using TCP/IP Tunneling protocol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Ports need to be opened on Server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80 ( RPC over HTTP Traffic )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1521 ( Oracle Traffic )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445 (On-Demand Report Access)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ACTUAL IMPLEMENTA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09480" y="1676520"/>
            <a:ext cx="79250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8052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Requirement on Client 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CIS Enabled using TCP/IP Tunneling Protocol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Port 1801 need to be opened for MSMQ access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ACTUAL IMPLEMENTA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ecurity Considerations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Firewall configuration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Port 80 Open (On NDS Server for Remote clients)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Port 1521 Open (On NDS Server for Remote clients)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Port 445 Open (On NDS Server for Remote clients)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Port 1801 Open (On Remote Client for NDS server)  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Client can be any outside machine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Allow Anonymous Access to RPC Proxy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Deny access for all the IP addresses other than Member Clients.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ACTUAL IMPLEMENTA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Remote Client Configuration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Run the RemoteClientSet Utility 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Enter the Public IP addresses of both the Remote Client and NDS Server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Enter the fully qualified domain name of the NDS server (e.g. domain.nds.com)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Click Ok and login to the application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There is no apparent difference in the normal working of NDS application for a remote client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WORKING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Myriad Roman"/>
              </a:rPr>
              <a:t>THANK YOU</a:t>
            </a:r>
            <a:endParaRPr b="0" lang="en-US" sz="44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 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INTRODUCTION TO DCOM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DCOM IN PDONDS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RPC OVER HTTP in PDONDS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ACTUAL IMPLEMENTATION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5720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RPC OVER HTT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INTRODUCTION TO DCOM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Distributed Component Object Model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upports Client/Server Architecture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upports communication over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LAN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WAN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INTRODUCTION TO DCOM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Uses RPC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Remote Procedure Calls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Used for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Interprocess Communication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Data Exchange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INTRODUCTION TO DCOM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Architecture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295280" y="2514600"/>
            <a:ext cx="6324480" cy="3505320"/>
            <a:chOff x="1295280" y="2514600"/>
            <a:chExt cx="6324480" cy="3505320"/>
          </a:xfrm>
        </p:grpSpPr>
        <p:sp>
          <p:nvSpPr>
            <p:cNvPr id="99" name=""/>
            <p:cNvSpPr/>
            <p:nvPr/>
          </p:nvSpPr>
          <p:spPr>
            <a:xfrm>
              <a:off x="1295280" y="2514600"/>
              <a:ext cx="2248560" cy="276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76080" y="2698920"/>
              <a:ext cx="1686600" cy="73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lient Applic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76080" y="3805920"/>
              <a:ext cx="1686600" cy="55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76080" y="4359240"/>
              <a:ext cx="1686600" cy="55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71200" y="2514600"/>
              <a:ext cx="2248560" cy="276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652360" y="2698920"/>
              <a:ext cx="1686600" cy="73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rver Compon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52360" y="3805920"/>
              <a:ext cx="1686600" cy="55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52360" y="4359240"/>
              <a:ext cx="1686600" cy="55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19560" y="3436920"/>
              <a:ext cx="0" cy="36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95840" y="3436920"/>
              <a:ext cx="0" cy="36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62680" y="4728600"/>
              <a:ext cx="238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25000" y="4912920"/>
              <a:ext cx="1265040" cy="110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COM Network Protoc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Broad Architecture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DCOM IN PDOND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066680" y="2438280"/>
            <a:ext cx="6857640" cy="3581280"/>
            <a:chOff x="1066680" y="2438280"/>
            <a:chExt cx="6857640" cy="3581280"/>
          </a:xfrm>
        </p:grpSpPr>
        <p:sp>
          <p:nvSpPr>
            <p:cNvPr id="114" name=""/>
            <p:cNvSpPr/>
            <p:nvPr/>
          </p:nvSpPr>
          <p:spPr>
            <a:xfrm>
              <a:off x="2495160" y="2438280"/>
              <a:ext cx="2143080" cy="276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ber 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81000" y="2925360"/>
              <a:ext cx="1571400" cy="64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DONDS Compon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81000" y="4062240"/>
              <a:ext cx="1571400" cy="48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38160" y="3574800"/>
              <a:ext cx="0" cy="4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81000" y="4549320"/>
              <a:ext cx="1571400" cy="48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81240" y="2438280"/>
              <a:ext cx="2143080" cy="276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ber Cl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10000" y="2925360"/>
              <a:ext cx="1428480" cy="64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DONDS Cl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10000" y="4062240"/>
              <a:ext cx="1428480" cy="48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24240" y="3574800"/>
              <a:ext cx="0" cy="4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10000" y="4549320"/>
              <a:ext cx="1428480" cy="48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52760" y="4874040"/>
              <a:ext cx="18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83760" y="4154040"/>
              <a:ext cx="71424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32920" y="5045400"/>
              <a:ext cx="1000080" cy="97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nection Oriented TCP/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66680" y="3335760"/>
              <a:ext cx="1143000" cy="64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mber Datab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09680" y="3412440"/>
              <a:ext cx="57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1066680" y="3087720"/>
              <a:ext cx="1714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66680" y="2600640"/>
              <a:ext cx="1285560" cy="32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o Host 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6676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Limitations of RPC on WAN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Uses Dynamic Range of ports for communication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Uses vulnerable Port 135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Most Firewalls block these ports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DCOM IN PDOND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28600" y="18288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What is RPC over HTTP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Allows client to communicate over Internet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Server uses RPC Proxy service provided by IIS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Client talks to RPC Proxy using HTTP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RPC Proxy redirects the traffic to the Server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RPC Proxy may or may not be the same machine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RPC OVER HTTP IN PDOND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When applied to PDONDS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RPC OVER HTTP IN PDOND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62120" y="2438280"/>
            <a:ext cx="7162560" cy="3581280"/>
            <a:chOff x="762120" y="2438280"/>
            <a:chExt cx="7162560" cy="3581280"/>
          </a:xfrm>
        </p:grpSpPr>
        <p:sp>
          <p:nvSpPr>
            <p:cNvPr id="138" name=""/>
            <p:cNvSpPr/>
            <p:nvPr/>
          </p:nvSpPr>
          <p:spPr>
            <a:xfrm>
              <a:off x="6730920" y="3632040"/>
              <a:ext cx="1193760" cy="59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ber Cl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2120" y="3333600"/>
              <a:ext cx="3581280" cy="134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ber 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11160" y="3781440"/>
              <a:ext cx="1492200" cy="59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DONDS Compon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47720" y="3333600"/>
              <a:ext cx="895320" cy="134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PC 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II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343400" y="3930480"/>
              <a:ext cx="238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06480" y="4228920"/>
              <a:ext cx="5670360" cy="1207800"/>
            </a:xfrm>
            <a:custGeom>
              <a:avLst/>
              <a:gdLst/>
              <a:ahLst/>
              <a:rect l="l" t="t" r="r" b="b"/>
              <a:pathLst>
                <a:path w="6840" h="1457">
                  <a:moveTo>
                    <a:pt x="0" y="180"/>
                  </a:moveTo>
                  <a:lnTo>
                    <a:pt x="9" y="1457"/>
                  </a:lnTo>
                  <a:lnTo>
                    <a:pt x="6831" y="1440"/>
                  </a:lnTo>
                  <a:lnTo>
                    <a:pt x="684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lg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37160" y="3482640"/>
              <a:ext cx="745920" cy="29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790880" y="2587320"/>
              <a:ext cx="0" cy="2536920"/>
            </a:xfrm>
            <a:prstGeom prst="line">
              <a:avLst/>
            </a:prstGeom>
            <a:ln w="76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40280" y="2438280"/>
              <a:ext cx="1193760" cy="44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rewal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89320" y="4001040"/>
              <a:ext cx="1193760" cy="74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TT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lt;Port 80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94000" y="5572080"/>
              <a:ext cx="1939680" cy="44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ogical Conne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03360" y="4079880"/>
              <a:ext cx="10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73920" y="3674520"/>
              <a:ext cx="894960" cy="29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CP/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9T03:09:27Z</dcterms:created>
  <dc:creator>Dinanath Kholkar</dc:creator>
  <dc:description/>
  <dc:language>en-US</dc:language>
  <cp:lastModifiedBy>Administrator</cp:lastModifiedBy>
  <cp:lastPrinted>2001-09-06T04:03:13Z</cp:lastPrinted>
  <dcterms:modified xsi:type="dcterms:W3CDTF">2005-03-23T07:42:23Z</dcterms:modified>
  <cp:revision>481</cp:revision>
  <dc:subject/>
  <dc:title>Software Project Management</dc:title>
</cp:coreProperties>
</file>